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A62-27C6-431E-8342-EA819093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FA9-80DE-41D6-B713-101FD4AE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3DC-54C9-438F-B76D-8938845A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172-0C98-495C-A89C-80105172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9117-6EA2-4F50-9012-2A992D28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9731-46BE-48CA-88F5-CF8562B3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5243-9E1E-4B36-8F2C-51CCEF15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E37B-F022-411C-9C22-76C30A10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E4B7-FC1E-417D-A615-B405C669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8BCA-A441-4495-938B-D253CE04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1F98-E7C8-4032-A886-D87E3057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7B3-0B6F-4E73-B27A-5CE3C791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589A-9590-4C62-939A-E3E8DA84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4A45-FA05-455F-9C56-5C15C47E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3296-0A49-4B7B-B5FD-7890B1A5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E5FD-91DA-4477-A341-F6C1C2F1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7B92-E358-4182-951D-DF82A15C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4B0-8F07-42FA-AF5D-D3591E75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D9C-9F2E-4B2C-BD0A-9BA78B82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C91-E31C-4180-9D76-0A5C7654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23F-E821-44DD-9BFA-ACF0CC31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565-FD69-49D1-AA3D-BF9151AB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9F0-D647-4BBC-9E56-268AB03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675-FD78-4054-AEF3-5846B973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CA3A-8420-4209-AF28-C395D7C7AE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2CEF-610F-4C49-83E4-70394EC9E9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строение сетки осе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для построения на чертеже разбивочной сетки осе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66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71480" y="39322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строения на чертеже сетки осей необходимо указать количество горизонтальных и вертикальных осей, а также расстояние между ними. В случае необходимости сетку осей можно продолжить с другим ша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343160" y="1152360"/>
            <a:ext cx="6661080" cy="26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етки осе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1623960" y="1009800"/>
            <a:ext cx="6394680" cy="50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9:38Z</dcterms:modified>
  <cp:revision>300</cp:revision>
  <dc:subject/>
  <dc:title>Слайд 1</dc:title>
</cp:coreProperties>
</file>